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8.png" ContentType="image/png"/>
  <Override PartName="/ppt/media/image14.jpeg" ContentType="image/jpeg"/>
  <Override PartName="/ppt/media/image11.wmf" ContentType="image/x-wmf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8D39-B458-41E8-ABFF-262099C2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42E-3538-4889-A1CE-7C02C64F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26FC-EBA7-4946-8388-267AF4F46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636-508A-4F3C-A182-743E389C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C8FB-CA77-4E7E-B21B-B25598275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1817-F9AE-4AC9-9380-FC648DF4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71A-036F-484E-9CEE-EE45D3BC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F5A8-D869-47A6-9C89-32E01E51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27E6-B902-42B2-8AF4-59DB7621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507-8290-4EC9-9DB5-888E9B8F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8F1C-7918-4ACE-9362-1D08E0B7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3C1-224F-41D1-903B-5CCB660B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C008-A6CB-4768-95A2-134070B73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816440"/>
            <a:ext cx="8915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d2d"/>
                </a:solidFill>
                <a:latin typeface="Arial"/>
              </a:rPr>
              <a:t>L. Hughes, J. Bao, Z.-L. Hu, V. Honavar, J.M. Ree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2d2d"/>
                </a:solidFill>
                <a:latin typeface="Arial"/>
              </a:rPr>
              <a:t>Iowa State Un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5981760"/>
            <a:ext cx="9144000" cy="876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4446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nimal Trait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14400" y="320040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Project for the Creation of a Unified Trait Vocabulary for Farm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 collaborative group to develop an Animal Trait Ontology (AT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trait information for the pig, chicken, cow, and other farm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 collaborative effort between the ATO and other species ontology’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database that will allow the linkage of the trait information for each species stored in the ontology to its qtl/gene expression/proteomic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787320" y="0"/>
            <a:ext cx="5613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Classification 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448000"/>
            <a:ext cx="9144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mmun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fectious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Metabolic dis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Re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4344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Interactions between traits or traits belonging to different group : Thigh meat / bone ratio;meat color adjusted for body weigh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60020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Mammalian Phenotype Ontology (MGI website) not suitable for production tr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48000"/>
            <a:ext cx="9144000" cy="32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Carcass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rowth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at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tabolic tr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usc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lu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448000"/>
            <a:ext cx="9144000" cy="30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- Define a 3 level Ontology based on the different publica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ody trai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a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% Abdominal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eight / B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Abdominal fat wi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Fa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kin fat we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kin fat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0c0c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age can b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dependently develo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urators can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oncurrently ed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ontology on different pac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can be only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artially loa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e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ccess privileges can be controll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the package hierarc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wante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teractions are minim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limiting term and axiom vi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56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Collaborative Ontology Building (COB) Edi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on-collaborative Ontology Bui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43200" y="1828800"/>
            <a:ext cx="1295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18288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own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 flipH="1">
            <a:off x="1523520" y="1752480"/>
            <a:ext cx="669960" cy="642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479840" y="182880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79840" y="194328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Local Edi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3848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2057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1828800"/>
            <a:ext cx="129528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18288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Ont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99880" y="2449440"/>
            <a:ext cx="137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(single cur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447920" y="3886200"/>
            <a:ext cx="2730240" cy="2324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 rot="2880000">
            <a:off x="3966120" y="2358360"/>
            <a:ext cx="220680" cy="1600200"/>
          </a:xfrm>
          <a:prstGeom prst="upDownArrow">
            <a:avLst>
              <a:gd name="adj1" fmla="val 50000"/>
              <a:gd name="adj2" fmla="val 144353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rot="18849000">
            <a:off x="5947560" y="2358000"/>
            <a:ext cx="220680" cy="1600200"/>
          </a:xfrm>
          <a:prstGeom prst="upDownArrow">
            <a:avLst>
              <a:gd name="adj1" fmla="val 50000"/>
              <a:gd name="adj2" fmla="val 144353"/>
            </a:avLst>
          </a:prstGeom>
          <a:solidFill>
            <a:srgbClr val="ff9900">
              <a:alpha val="9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93760" y="6137280"/>
            <a:ext cx="139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otégé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92200" y="6083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BO-Edi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Modular Ontology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457200" y="1676520"/>
            <a:ext cx="8286840" cy="4711680"/>
            <a:chOff x="457200" y="1676520"/>
            <a:chExt cx="8286840" cy="471168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533520" y="4572000"/>
              <a:ext cx="119376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7389720" y="4483080"/>
              <a:ext cx="1354320" cy="160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7543800" y="1828800"/>
              <a:ext cx="1193760" cy="13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457200" y="1676520"/>
              <a:ext cx="131436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86880" y="3200400"/>
              <a:ext cx="8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7960" y="6019920"/>
              <a:ext cx="8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at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21920" y="601992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ick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98600" y="3200400"/>
              <a:ext cx="82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2480" y="2590920"/>
              <a:ext cx="167652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486400" y="3505320"/>
              <a:ext cx="19051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676520" y="4038480"/>
              <a:ext cx="1981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419720" y="2362320"/>
              <a:ext cx="312408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0" y="5257800"/>
              <a:ext cx="4724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ach group works on an ontology module for a particular species (according to the group’s best expertis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14600" y="1447920"/>
            <a:ext cx="4435560" cy="3524040"/>
            <a:chOff x="2514600" y="1447920"/>
            <a:chExt cx="4435560" cy="3524040"/>
          </a:xfrm>
        </p:grpSpPr>
        <p:grpSp>
          <p:nvGrpSpPr>
            <p:cNvPr id="185" name=""/>
            <p:cNvGrpSpPr/>
            <p:nvPr/>
          </p:nvGrpSpPr>
          <p:grpSpPr>
            <a:xfrm>
              <a:off x="2514600" y="1447920"/>
              <a:ext cx="4435560" cy="3524040"/>
              <a:chOff x="2514600" y="1447920"/>
              <a:chExt cx="4435560" cy="3524040"/>
            </a:xfrm>
          </p:grpSpPr>
          <p:pic>
            <p:nvPicPr>
              <p:cNvPr id="1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514600" y="2819520"/>
                <a:ext cx="3809880" cy="215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2590920" y="1447920"/>
                <a:ext cx="4359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llaborative building of an animal trait ontology that involves multiple research groups across the worl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352680" y="33526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581280" y="388620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267080" y="31240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4120" y="3352680"/>
              <a:ext cx="228600" cy="228600"/>
            </a:xfrm>
            <a:prstGeom prst="ellipse">
              <a:avLst/>
            </a:prstGeom>
            <a:solidFill>
              <a:srgbClr val="ff9900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73392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sted package is a part of another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be used to represent the organizational structure of an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orce hierarchical management of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85800" y="2995560"/>
            <a:ext cx="963720" cy="936720"/>
            <a:chOff x="685800" y="2995560"/>
            <a:chExt cx="963720" cy="936720"/>
          </a:xfrm>
        </p:grpSpPr>
        <p:sp>
          <p:nvSpPr>
            <p:cNvPr id="194" name=""/>
            <p:cNvSpPr/>
            <p:nvPr/>
          </p:nvSpPr>
          <p:spPr>
            <a:xfrm>
              <a:off x="685800" y="2995560"/>
              <a:ext cx="963720" cy="3747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宋体"/>
                </a:rPr>
                <a:t>Gener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89000" y="337032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89000" y="3745080"/>
              <a:ext cx="300240" cy="187200"/>
            </a:xfrm>
            <a:prstGeom prst="rightArrow">
              <a:avLst>
                <a:gd name="adj1" fmla="val 50000"/>
                <a:gd name="adj2" fmla="val 4009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397240" y="4413240"/>
            <a:ext cx="1108080" cy="37476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  <a:ea typeface="宋体"/>
              </a:rPr>
              <a:t>Pig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590840" y="3664080"/>
            <a:ext cx="965160" cy="1030320"/>
            <a:chOff x="1590840" y="3664080"/>
            <a:chExt cx="965160" cy="1030320"/>
          </a:xfrm>
        </p:grpSpPr>
        <p:sp>
          <p:nvSpPr>
            <p:cNvPr id="199" name=""/>
            <p:cNvSpPr/>
            <p:nvPr/>
          </p:nvSpPr>
          <p:spPr>
            <a:xfrm>
              <a:off x="1590840" y="3664080"/>
              <a:ext cx="965160" cy="37440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Book Antiqua"/>
                  <a:ea typeface="宋体"/>
                </a:rPr>
                <a:t>Pi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94040" y="413244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4040" y="4506840"/>
              <a:ext cx="301320" cy="187560"/>
            </a:xfrm>
            <a:prstGeom prst="rightArrow">
              <a:avLst>
                <a:gd name="adj1" fmla="val 50000"/>
                <a:gd name="adj2" fmla="val 401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79160" y="235908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  <a:ea typeface="宋体"/>
              </a:rPr>
              <a:t>Animal trait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52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ackage Nes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919960" y="0"/>
            <a:ext cx="282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The COB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609480"/>
            <a:ext cx="1600200" cy="342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4071960"/>
            <a:ext cx="190512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4410000"/>
            <a:ext cx="1905120" cy="271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19680" y="79848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g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00040" y="400680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ttl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8880" y="4397400"/>
            <a:ext cx="205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icken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0" y="4191120"/>
            <a:ext cx="8763120" cy="1981080"/>
            <a:chOff x="0" y="4191120"/>
            <a:chExt cx="8763120" cy="1981080"/>
          </a:xfrm>
        </p:grpSpPr>
        <p:sp>
          <p:nvSpPr>
            <p:cNvPr id="215" name=""/>
            <p:cNvSpPr/>
            <p:nvPr/>
          </p:nvSpPr>
          <p:spPr>
            <a:xfrm>
              <a:off x="2133720" y="4191120"/>
              <a:ext cx="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9480" y="44197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05320" y="4267080"/>
              <a:ext cx="0" cy="83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153280" y="44956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5029200"/>
              <a:ext cx="114300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hi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lood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23880" y="502920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almonel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ount 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43800" y="510552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71800" y="5029200"/>
              <a:ext cx="1219320" cy="106668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alv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E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52280" y="2666880"/>
            <a:ext cx="8686800" cy="1828800"/>
            <a:chOff x="152280" y="2666880"/>
            <a:chExt cx="8686800" cy="1828800"/>
          </a:xfrm>
        </p:grpSpPr>
        <p:sp>
          <p:nvSpPr>
            <p:cNvPr id="224" name=""/>
            <p:cNvSpPr/>
            <p:nvPr/>
          </p:nvSpPr>
          <p:spPr>
            <a:xfrm flipH="1">
              <a:off x="533520" y="2895480"/>
              <a:ext cx="4572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71600" y="2743200"/>
              <a:ext cx="60948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505320" y="2666880"/>
              <a:ext cx="76176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343400" y="2666880"/>
              <a:ext cx="8380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781320" y="2743200"/>
              <a:ext cx="76212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20120" y="2666880"/>
              <a:ext cx="609480" cy="106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71800" y="3505320"/>
              <a:ext cx="10666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rt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3429000"/>
              <a:ext cx="129564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00200" y="3505320"/>
              <a:ext cx="10666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atho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019920" y="350532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0120" y="3505320"/>
              <a:ext cx="1218960" cy="99036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ail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a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2280" y="3429000"/>
              <a:ext cx="1067040" cy="99072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3657600" y="304920"/>
            <a:ext cx="1143000" cy="9144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762120" y="1219320"/>
            <a:ext cx="7391160" cy="1752480"/>
            <a:chOff x="762120" y="1219320"/>
            <a:chExt cx="7391160" cy="1752480"/>
          </a:xfrm>
        </p:grpSpPr>
        <p:sp>
          <p:nvSpPr>
            <p:cNvPr id="238" name=""/>
            <p:cNvSpPr/>
            <p:nvPr/>
          </p:nvSpPr>
          <p:spPr>
            <a:xfrm>
              <a:off x="4191120" y="1219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91120" y="1219320"/>
              <a:ext cx="327636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1295280" y="1219320"/>
              <a:ext cx="289584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7600" y="1981080"/>
              <a:ext cx="121932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58000" y="2057400"/>
              <a:ext cx="129528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2120" y="2057400"/>
              <a:ext cx="1143000" cy="9144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al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105520" y="4343400"/>
            <a:ext cx="1295280" cy="1828800"/>
            <a:chOff x="5105520" y="4343400"/>
            <a:chExt cx="1295280" cy="1828800"/>
          </a:xfrm>
        </p:grpSpPr>
        <p:sp>
          <p:nvSpPr>
            <p:cNvPr id="245" name=""/>
            <p:cNvSpPr/>
            <p:nvPr/>
          </p:nvSpPr>
          <p:spPr>
            <a:xfrm>
              <a:off x="5257800" y="4419720"/>
              <a:ext cx="457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790960" y="4343400"/>
              <a:ext cx="53316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05520" y="5105520"/>
              <a:ext cx="1295280" cy="1066680"/>
            </a:xfrm>
            <a:prstGeom prst="ellipse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irt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e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50" name=""/>
          <p:cNvGrpSpPr/>
          <p:nvPr/>
        </p:nvGrpSpPr>
        <p:grpSpPr>
          <a:xfrm>
            <a:off x="3426840" y="6110280"/>
            <a:ext cx="2684520" cy="740160"/>
            <a:chOff x="3426840" y="6110280"/>
            <a:chExt cx="2684520" cy="740160"/>
          </a:xfrm>
        </p:grpSpPr>
        <p:cxnSp>
          <p:nvCxnSpPr>
            <p:cNvPr id="251" name=""/>
            <p:cNvCxnSpPr>
              <a:stCxn id="222" idx="4"/>
              <a:endCxn id="247" idx="4"/>
            </p:cNvCxnSpPr>
            <p:nvPr/>
          </p:nvCxnSpPr>
          <p:spPr>
            <a:xfrm flipH="1" rot="16200000">
              <a:off x="4628160" y="5062320"/>
              <a:ext cx="76680" cy="2172600"/>
            </a:xfrm>
            <a:prstGeom prst="curvedConnector5">
              <a:avLst>
                <a:gd name="adj1" fmla="val 383018"/>
                <a:gd name="adj2" fmla="val 50000"/>
                <a:gd name="adj3" fmla="val 383018"/>
              </a:avLst>
            </a:prstGeom>
            <a:ln w="572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52" name=""/>
            <p:cNvSpPr/>
            <p:nvPr/>
          </p:nvSpPr>
          <p:spPr>
            <a:xfrm>
              <a:off x="3426840" y="6451560"/>
              <a:ext cx="268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enetic Correl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unified vocabulary for farm animals phenotypic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B Editor provides the necessary tool to collaboratively build well-structured, large-scale, biomedical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er order ontology terms that link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73640" y="304920"/>
            <a:ext cx="39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2819520"/>
            <a:ext cx="2895840" cy="9648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IUC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tacey Mey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Jonathan Be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1239840"/>
            <a:ext cx="2895840" cy="126648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anger Institu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ean Humph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Carol Sc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Jane Ro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76920" y="4135320"/>
            <a:ext cx="2895480" cy="12852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SDA-MARC</a:t>
            </a:r>
            <a:r>
              <a:rPr b="1" lang="en-US" sz="16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Gary Roh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76920" y="2819520"/>
            <a:ext cx="2895480" cy="96480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pt. of Animal Sci., I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Max Roths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Eric Ryan Fr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4135320"/>
            <a:ext cx="2895840" cy="1266480"/>
          </a:xfrm>
          <a:prstGeom prst="rect">
            <a:avLst/>
          </a:prstGeom>
          <a:solidFill>
            <a:srgbClr val="ffff66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C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Svetlana Drach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Donna Magl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10000"/>
              </a:lnSpc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Wonhee J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23760" y="565452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unding Provided by USDA-CS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5981760"/>
            <a:ext cx="9144000" cy="87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5800" y="304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82880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ent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we got st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llaborative Ontology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imal Trait On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762120" y="203040"/>
          <a:ext cx="7543800" cy="63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3040"/>
                    <a:ext cx="754380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17760" y="0"/>
            <a:ext cx="611028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128520"/>
            <a:ext cx="9144000" cy="66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835280"/>
            <a:ext cx="9144000" cy="3187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386400" y="0"/>
            <a:ext cx="2757600" cy="1724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786760" cy="3449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-4267080" y="3429000"/>
            <a:ext cx="24012360" cy="1733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-8915400" y="5105520"/>
            <a:ext cx="180594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15920" y="0"/>
            <a:ext cx="756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Classification of Tr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446200" y="1193760"/>
            <a:ext cx="2614680" cy="5666760"/>
            <a:chOff x="2446200" y="1193760"/>
            <a:chExt cx="2614680" cy="5666760"/>
          </a:xfrm>
        </p:grpSpPr>
        <p:sp>
          <p:nvSpPr>
            <p:cNvPr id="70" name=""/>
            <p:cNvSpPr/>
            <p:nvPr/>
          </p:nvSpPr>
          <p:spPr>
            <a:xfrm>
              <a:off x="2476440" y="1193760"/>
              <a:ext cx="2584440" cy="51436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78040" y="17352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33800" y="223848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05200" y="223848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362400" y="223848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91000" y="238284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9600" y="180828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19600" y="49752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2800" y="4975200"/>
              <a:ext cx="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70480" y="4902120"/>
              <a:ext cx="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975120" y="48308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67280" y="43988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6200000">
              <a:off x="2266920" y="21142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2495520" y="23302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2737080" y="23684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2952720" y="229212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3156120" y="23428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A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3384720" y="17589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3165480" y="4822200"/>
              <a:ext cx="1359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CARC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3791160" y="52131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4552920" y="4425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G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4070520" y="4996800"/>
              <a:ext cx="63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BW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rot="16200000">
              <a:off x="4324320" y="518796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%S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33600" y="6340320"/>
              <a:ext cx="749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Body tr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4854600" y="1219320"/>
              <a:ext cx="179280" cy="179280"/>
              <a:chOff x="4854600" y="1219320"/>
              <a:chExt cx="179280" cy="179280"/>
            </a:xfrm>
          </p:grpSpPr>
          <p:sp>
            <p:nvSpPr>
              <p:cNvPr id="95" name=""/>
              <p:cNvSpPr/>
              <p:nvPr/>
            </p:nvSpPr>
            <p:spPr>
              <a:xfrm>
                <a:off x="485460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" name=""/>
              <p:cNvGrpSpPr/>
              <p:nvPr/>
            </p:nvGrpSpPr>
            <p:grpSpPr>
              <a:xfrm>
                <a:off x="4854600" y="1219320"/>
                <a:ext cx="179280" cy="179280"/>
                <a:chOff x="4854600" y="1219320"/>
                <a:chExt cx="179280" cy="1792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87008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V="1">
                  <a:off x="485460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9" name=""/>
          <p:cNvGrpSpPr/>
          <p:nvPr/>
        </p:nvGrpSpPr>
        <p:grpSpPr>
          <a:xfrm>
            <a:off x="4997520" y="1193760"/>
            <a:ext cx="1092240" cy="5666760"/>
            <a:chOff x="4997520" y="1193760"/>
            <a:chExt cx="1092240" cy="5666760"/>
          </a:xfrm>
        </p:grpSpPr>
        <p:sp>
          <p:nvSpPr>
            <p:cNvPr id="100" name=""/>
            <p:cNvSpPr/>
            <p:nvPr/>
          </p:nvSpPr>
          <p:spPr>
            <a:xfrm>
              <a:off x="5099040" y="1193760"/>
              <a:ext cx="933480" cy="51436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384880" y="346248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662440" y="44704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972320" y="34480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D_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5187960" y="436248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D_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97520" y="6340320"/>
              <a:ext cx="1092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Infectious dise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819760" y="1219320"/>
              <a:ext cx="179280" cy="179280"/>
              <a:chOff x="5819760" y="1219320"/>
              <a:chExt cx="179280" cy="179280"/>
            </a:xfrm>
          </p:grpSpPr>
          <p:sp>
            <p:nvSpPr>
              <p:cNvPr id="107" name=""/>
              <p:cNvSpPr/>
              <p:nvPr/>
            </p:nvSpPr>
            <p:spPr>
              <a:xfrm>
                <a:off x="581976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5819760" y="1219320"/>
                <a:ext cx="179280" cy="179280"/>
                <a:chOff x="5819760" y="1219320"/>
                <a:chExt cx="179280" cy="179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83524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V="1">
                  <a:off x="581976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1" name=""/>
          <p:cNvGrpSpPr/>
          <p:nvPr/>
        </p:nvGrpSpPr>
        <p:grpSpPr>
          <a:xfrm>
            <a:off x="6064200" y="1193760"/>
            <a:ext cx="1333440" cy="5666760"/>
            <a:chOff x="6064200" y="1193760"/>
            <a:chExt cx="1333440" cy="5666760"/>
          </a:xfrm>
        </p:grpSpPr>
        <p:sp>
          <p:nvSpPr>
            <p:cNvPr id="112" name=""/>
            <p:cNvSpPr/>
            <p:nvPr/>
          </p:nvSpPr>
          <p:spPr>
            <a:xfrm>
              <a:off x="6089760" y="1193760"/>
              <a:ext cx="1301760" cy="51436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16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5502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778800" y="2886120"/>
              <a:ext cx="0" cy="64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7400" y="29592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6000" y="295920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5899320" y="3079080"/>
              <a:ext cx="634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6140520" y="3066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6301080" y="3057480"/>
              <a:ext cx="77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Wt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6597720" y="306684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N_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0000">
              <a:off x="6838920" y="3092400"/>
              <a:ext cx="63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F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64200" y="6340320"/>
              <a:ext cx="1333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Reproduction fema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7178760" y="1219320"/>
              <a:ext cx="179280" cy="179280"/>
              <a:chOff x="7178760" y="1219320"/>
              <a:chExt cx="179280" cy="179280"/>
            </a:xfrm>
          </p:grpSpPr>
          <p:sp>
            <p:nvSpPr>
              <p:cNvPr id="125" name=""/>
              <p:cNvSpPr/>
              <p:nvPr/>
            </p:nvSpPr>
            <p:spPr>
              <a:xfrm>
                <a:off x="7178760" y="1219320"/>
                <a:ext cx="179280" cy="179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178760" y="1219320"/>
                <a:ext cx="179280" cy="179280"/>
                <a:chOff x="7178760" y="1219320"/>
                <a:chExt cx="179280" cy="179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194240" y="1219320"/>
                  <a:ext cx="147960" cy="179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V="1">
                  <a:off x="7178760" y="1222560"/>
                  <a:ext cx="179280" cy="1717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3364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1003320" y="826920"/>
            <a:ext cx="1879560" cy="5516640"/>
            <a:chOff x="1003320" y="826920"/>
            <a:chExt cx="1879560" cy="5516640"/>
          </a:xfrm>
        </p:grpSpPr>
        <p:pic>
          <p:nvPicPr>
            <p:cNvPr id="131" name="" descr=""/>
            <p:cNvPicPr/>
            <p:nvPr/>
          </p:nvPicPr>
          <p:blipFill>
            <a:blip r:embed="rId2"/>
            <a:srcRect l="1969" t="4218" r="81371" b="1687"/>
            <a:stretch/>
          </p:blipFill>
          <p:spPr>
            <a:xfrm>
              <a:off x="1266840" y="1174680"/>
              <a:ext cx="1174680" cy="51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1003320" y="826920"/>
              <a:ext cx="1879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Chicken Chr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1639800"/>
            <a:ext cx="12573000" cy="980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21:22:20Z</dcterms:created>
  <dc:creator>laron</dc:creator>
  <dc:description/>
  <dc:language>en-US</dc:language>
  <cp:lastModifiedBy>Jreecy</cp:lastModifiedBy>
  <dcterms:modified xsi:type="dcterms:W3CDTF">2006-12-01T18:18:19Z</dcterms:modified>
  <cp:revision>6</cp:revision>
  <dc:subject/>
  <dc:title>Slide 1</dc:title>
</cp:coreProperties>
</file>